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FF423-B890-478D-844A-7D3254CB3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2557B-1C88-4D96-958E-6B634283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D057C-393D-4265-9506-B348E19E3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83C52-2012-44AA-AB65-9245D951A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A822C-BC89-4C43-A256-4F810C737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68360-FD66-4C27-ABDD-45F024058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B20F9-C9B0-4745-BD6B-32F3E8BB9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C577B-9749-49D4-9304-3A5425453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A1783-F164-412A-AB14-F165EEA83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3C04B-D54A-41A8-86C0-4CE6ABADD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6B5C7-A0AF-4B2A-B50E-02E545164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391CB-9253-48F5-9EBD-D651E3A5B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F1873-FEAE-46A6-BEC5-D26693D58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5B29F-F61B-4C0C-8084-28F7DD18B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3713E-68D0-4CAF-966E-42D33702B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ECEDC-0CEA-44AB-A189-C9A12BEC3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892C0-63DD-432A-83A5-974E6F2B1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1A7EDF-2D58-47FB-9213-C4DE3D3B0D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998334-CB0B-46E6-8E2E-6F0912AE0D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5D4F8-B63F-457D-BA9A-439CF5373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C58366-46AE-46AD-A754-867FFB70B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DA30E-0956-486F-875B-AE321F60A5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A4DBA-7168-4551-8CD3-BA0A41E76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EB9871-D3EA-438D-AC5D-7FBC3C23F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84A45-4880-4B13-B1BD-95B3C6612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ADE99-2DA8-45E0-B4D8-F048E73F5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EEDC2-C146-4AA6-B314-82606F02E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343617-D80B-4E82-8DDA-1FCD3A0D78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E0C1B1-BD7E-4FAB-B154-160777606D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78E5FD-5A24-43AF-B469-E3AD8FD7AC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AF86A0-C4C0-43BB-8ED6-43120E319B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0CF1B2-7C24-43D6-BD61-3937C314AB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8C338B-CEB6-4E86-B682-A4B9BC387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EDBD7-56E6-442F-8609-ECE69A8E2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95107-7742-4FC3-8E47-EEDB7A6A05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C18B4B-1E70-4D84-975C-C59CFED3E1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F4616-AB15-44C4-8E81-5EE1DCE99E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2D8CB-9C1C-4E03-B7DA-5629D7FF0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60AB0-CACA-408B-881E-9135F1321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3F1BB-7DC4-47E2-830F-C927F3BFA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D93F3-B78B-41A8-9237-433233304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7B026B-2F32-4F1F-871E-23AACF90CE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595367-7703-4482-A592-819326906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80E896-447D-4815-8838-43FC891C2A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1376C-E2B0-4FC5-9B1E-A3DB3632D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56CC42-E225-4B84-8ACB-7C5CCD2A31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38AE01-D2C9-4317-9D86-B2DED6FE2B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CB1E7-8A1A-48CE-B91D-83B637820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C8B3CE-7511-400D-B875-2710107A7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1D47C8-5021-4BEA-B034-CB10AA178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D8A20-77D7-47F1-B345-AFC8C06B2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98CE5-A813-4A9A-BA2B-C78BCDFF0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482A3-C01D-4ED8-A770-ACAC1BC37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32A134-61A8-4119-9608-C8D2059D10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DB40F6-D202-496D-8D56-53F2666505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5B8D2-723D-4C11-8D4C-C98A24F61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061CA5-CD5B-4973-B3B2-35F3A81881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A651-E0C2-4BD3-BE0E-8520D863A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97E53-8776-4EF0-87E3-FFC82708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9CF1-87CD-4DF6-8918-2E1974D7C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FCA9-661F-428A-BDCC-87735F37EB3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AD17-9E6F-4480-BA6B-9374D406465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1E1D-6973-4D49-83E0-7891039A7AE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A9A7-BC45-460F-BC95-23DAFC661AE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8E10-8C5C-4844-9F9F-C9A6D993B1D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533520"/>
            <a:ext cx="7772400" cy="311616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Global Economy During the Cold War: Emphasis </a:t>
            </a:r>
            <a:r>
              <a:rPr b="1" lang="en-US" sz="4500" spc="-1" strike="noStrike">
                <a:solidFill>
                  <a:srgbClr val="ff8d3e"/>
                </a:solidFill>
                <a:latin typeface="Verdana"/>
              </a:rPr>
              <a:t>	</a:t>
            </a:r>
            <a:r>
              <a:rPr b="1" lang="en-US" sz="4500" spc="-1" strike="noStrike">
                <a:solidFill>
                  <a:srgbClr val="ff8d3e"/>
                </a:solidFill>
                <a:latin typeface="Verdana"/>
              </a:rPr>
              <a:t>on Russia.        </a:t>
            </a:r>
            <a:br>
              <a:rPr sz="4500"/>
            </a:br>
            <a:r>
              <a:rPr b="1" lang="en-US" sz="2800" spc="-1" strike="noStrike">
                <a:solidFill>
                  <a:srgbClr val="ff8d3e"/>
                </a:solidFill>
                <a:latin typeface="Verdana"/>
              </a:rPr>
              <a:t>Kaisha C. Katy M. Tanner Y. Lauren Z.</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id you know?  </a:t>
            </a:r>
            <a:endParaRPr b="1" lang="en-US" sz="3600" spc="-1" strike="noStrike">
              <a:solidFill>
                <a:srgbClr val="ff8d3e"/>
              </a:solidFill>
              <a:latin typeface="Verdana"/>
            </a:endParaRPr>
          </a:p>
        </p:txBody>
      </p:sp>
      <p:sp>
        <p:nvSpPr>
          <p:cNvPr id="222" name=""/>
          <p:cNvSpPr txBox="1"/>
          <p:nvPr/>
        </p:nvSpPr>
        <p:spPr>
          <a:xfrm>
            <a:off x="514080" y="529920"/>
            <a:ext cx="3932280" cy="43894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old war got it’s name because neither side wished to use weapons against the other. Instead of destroying nations, they destroyed the reputations of the forces opposing them indirectly through threats and denouncements and tried to make each other look foolish.</a:t>
            </a:r>
            <a:endParaRPr b="0" lang="en-US" sz="2200" spc="-1" strike="noStrike">
              <a:solidFill>
                <a:srgbClr val="000000"/>
              </a:solidFill>
              <a:latin typeface="Verdana"/>
            </a:endParaRPr>
          </a:p>
        </p:txBody>
      </p:sp>
      <p:sp>
        <p:nvSpPr>
          <p:cNvPr id="223" name=""/>
          <p:cNvSpPr txBox="1"/>
          <p:nvPr/>
        </p:nvSpPr>
        <p:spPr>
          <a:xfrm>
            <a:off x="4756320" y="529920"/>
            <a:ext cx="3930480" cy="43894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ough different leaders took power over the years, the Cold War continued on between nations. There are a few different dates thought to be the ‘end’ of the Cold War:  1989 when the Berlin Wall was torn down and in late 1991 when the Soviet Union collapse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Global Separation</a:t>
            </a:r>
            <a:endParaRPr b="1" lang="en-US" sz="3600" spc="-1" strike="noStrike">
              <a:solidFill>
                <a:srgbClr val="ff8d3e"/>
              </a:solidFill>
              <a:latin typeface="Verdana"/>
            </a:endParaRPr>
          </a:p>
        </p:txBody>
      </p:sp>
      <p:sp>
        <p:nvSpPr>
          <p:cNvPr id="22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old War was separated into  three groups with the United States leading the West. This group included countries with run by democratic political systems.</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oviet Union led the East which consisted of countries with communist political systems.</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untries that wanted to be considered neither East nor West were considered  the non-aligned group.</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Soviet Union was considered by the United States a western ally in the fight against Nazi Germany in the second World War: the Soviet Union saw the West as a great help in the riddance of fascism.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38520" y="1980720"/>
            <a:ext cx="1295640" cy="628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7f09"/>
                </a:solidFill>
                <a:latin typeface="Verdana"/>
              </a:rPr>
              <a:t>This map shows allied forces from the Cold War circa 1982</a:t>
            </a:r>
            <a:br>
              <a:rPr sz="2000"/>
            </a:br>
            <a:br>
              <a:rPr sz="2000"/>
            </a:br>
            <a:br>
              <a:rPr sz="2000"/>
            </a:br>
            <a:br>
              <a:rPr sz="2000"/>
            </a:br>
            <a:br>
              <a:rPr sz="2000"/>
            </a:br>
            <a:br>
              <a:rPr sz="2000"/>
            </a:br>
            <a:br>
              <a:rPr sz="2000"/>
            </a:br>
            <a:br>
              <a:rPr sz="2000"/>
            </a:br>
            <a:br>
              <a:rPr sz="2000"/>
            </a:br>
            <a:br>
              <a:rPr sz="2000"/>
            </a:br>
            <a:br>
              <a:rPr sz="2000"/>
            </a:br>
            <a:br>
              <a:rPr sz="2000"/>
            </a:br>
            <a:br>
              <a:rPr sz="2000"/>
            </a:br>
            <a:endParaRPr b="1" lang="en-US" sz="2000" spc="-1" strike="noStrike">
              <a:solidFill>
                <a:srgbClr val="ff8d3e"/>
              </a:solidFill>
              <a:latin typeface="Verdana"/>
            </a:endParaRPr>
          </a:p>
        </p:txBody>
      </p:sp>
      <p:sp>
        <p:nvSpPr>
          <p:cNvPr id="227"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28" name="Content Placeholder 4" descr="cold-war.gif"/>
          <p:cNvPicPr/>
          <p:nvPr/>
        </p:nvPicPr>
        <p:blipFill>
          <a:blip r:embed="rId1"/>
          <a:stretch/>
        </p:blipFill>
        <p:spPr>
          <a:xfrm>
            <a:off x="762120" y="1295280"/>
            <a:ext cx="6360840" cy="403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7f09"/>
                </a:solidFill>
                <a:latin typeface="Verdana"/>
              </a:rPr>
              <a:t>Economy</a:t>
            </a:r>
            <a:endParaRPr b="1" lang="en-US" sz="4000" spc="-1" strike="noStrike">
              <a:solidFill>
                <a:srgbClr val="ff8d3e"/>
              </a:solidFill>
              <a:latin typeface="Verdana"/>
            </a:endParaRPr>
          </a:p>
        </p:txBody>
      </p:sp>
      <p:sp>
        <p:nvSpPr>
          <p:cNvPr id="230"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uring and after the Cold War, trade was greatly affected. Conflicting allies refused to trade with one another causing strict ties to certain countries and making certain consumer good made only in a few countries hard to obtain if a nation was not allied with said producing nation. This fact has continued to affect our economy up until the current times we are living in today.</a:t>
            </a:r>
            <a:endParaRPr b="0" lang="en-US" sz="1700" spc="-1" strike="noStrike">
              <a:solidFill>
                <a:srgbClr val="000000"/>
              </a:solidFill>
              <a:latin typeface="Verdana"/>
            </a:endParaRPr>
          </a:p>
        </p:txBody>
      </p:sp>
      <p:pic>
        <p:nvPicPr>
          <p:cNvPr id="231" name="Content Placeholder 4" descr="Cold_War flag.jpg"/>
          <p:cNvPicPr/>
          <p:nvPr/>
        </p:nvPicPr>
        <p:blipFill>
          <a:blip r:embed="rId1"/>
          <a:stretch/>
        </p:blipFill>
        <p:spPr>
          <a:xfrm>
            <a:off x="1195560" y="930240"/>
            <a:ext cx="375912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4:49:51Z</dcterms:created>
  <dc:creator>WVDE</dc:creator>
  <dc:description/>
  <dc:language>en-US</dc:language>
  <cp:lastModifiedBy>WVDE</cp:lastModifiedBy>
  <dcterms:modified xsi:type="dcterms:W3CDTF">2009-06-02T14:51:14Z</dcterms:modified>
  <cp:revision>7</cp:revision>
  <dc:subject/>
  <dc:title>Global Economy During the Cold war: Emphasis on Russia</dc:title>
</cp:coreProperties>
</file>